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525-5F6B-4A4E-80E4-E3A95AD5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648-9A16-4990-9666-1B35E6CD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B0A-7B62-49F6-B44C-FE15AF2E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EAB-72C5-4D19-AC61-7C340694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2163-E2B6-4B2C-A9DA-35FC991B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0673-9B4D-44EA-AA26-9A1F9F7F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8CFF-F83F-4E2C-89EC-670A6D6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7207-021B-4AA9-8413-6B8D0EE2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6825-CD1F-484A-96BA-A06D97E1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AF9E-548F-44A9-BBA1-CACD0D1E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AA9A-CE2D-4827-A42A-4D23AD77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9D7-B6E8-4355-AFB7-7F089A70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3495-D420-473C-AE39-9B8872F7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D9C-0116-4511-B9C3-FF44279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BA42-E009-412E-812F-45640482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20DC-CF29-4B10-BE16-56398569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4B4A-314A-4913-B0C9-707DD6F6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345-3A7A-45E4-ABE2-B258598F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342-772C-413F-9086-B88797C1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2AF-F856-4647-9F8F-6CE89850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D78-6428-45D9-8EFA-CD337CF0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747-FF21-4ECC-91B7-E6CF1E4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9A2-B55A-4CEA-A10E-9190E5D9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D8D-88CB-4B2A-9ED3-54432A0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D569-7190-4920-B9ED-08DE6B3ECF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8398-E895-445C-82F9-D2FE1967F14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87692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ر بُ راعي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5410080" cy="462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ودة والرحمة تتبعان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911240" y="762120"/>
            <a:ext cx="921060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ميع أيام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5486400" cy="721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سكناي</a:t>
            </a:r>
            <a:r>
              <a:rPr b="1" lang="ar-LB" sz="85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بي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 طول الأيام.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095880" cy="11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9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14800" y="-92160"/>
            <a:ext cx="5029200" cy="1033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دّ نفسي ويهد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سبل البر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جل اسمه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862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ني ولو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لكت في وادي ظلال الـموت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686800" cy="740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أخافُ سوءاً لأنّك مع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صاكَ وعكّازك هما يعزّيانني.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0:44Z</dcterms:created>
  <dc:creator>Charbel Azar</dc:creator>
  <dc:description/>
  <dc:language>en-US</dc:language>
  <cp:lastModifiedBy>ف</cp:lastModifiedBy>
  <dcterms:modified xsi:type="dcterms:W3CDTF">2006-05-16T10:05:14Z</dcterms:modified>
  <cp:revision>8</cp:revision>
  <dc:subject/>
  <dc:title>PowerPoint Presentation</dc:title>
</cp:coreProperties>
</file>